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D18-862C-4950-9AD8-A03AAE14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D14-AF43-4B50-8C11-D946A307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E5A-935C-4245-ACC2-76987E4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5AB-5016-40FD-ABAD-B9CBA9EA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225-94BB-47FA-A3B9-3306B48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08E-246A-49F8-8336-1FF2D39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257-23FE-4C71-8D42-B9C870FC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3B9-0DBC-4D5F-81A2-CF799666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3CF-67A1-4739-BF52-30B3B1D3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046-4952-4038-B3BD-A8EAF64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71A-1C0E-435F-9472-E6039398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DA7-4F3F-4D0F-BD68-26619B0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440-E897-4075-9980-264C2AA3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.wigflip.com/a/n5oWDhu0/signbot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postcardsfrom/" TargetMode="External"/><Relationship Id="rId4" Type="http://schemas.openxmlformats.org/officeDocument/2006/relationships/hyperlink" Target="http://www.postcards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4724280"/>
            <a:ext cx="3124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Ed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362320"/>
            <a:ext cx="693432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6880" y="399888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States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21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Kentucky,Frank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4,041,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 the Union: June 1, 1792 (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17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United we stand, divided we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Blue gras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My old Kentucky 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Irouquis: means Meadow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Golden Pl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Kentucky: Map and State Flag"/>
          <p:cNvPicPr/>
          <p:nvPr/>
        </p:nvPicPr>
        <p:blipFill>
          <a:blip r:embed="rId1"/>
          <a:stretch/>
        </p:blipFill>
        <p:spPr>
          <a:xfrm>
            <a:off x="2133720" y="380880"/>
            <a:ext cx="3676680" cy="37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5105520"/>
            <a:ext cx="236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28000" y="5105520"/>
            <a:ext cx="56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4,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arn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r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bensguide.gpo/3/5stat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All images Copyright © 1997 - 2000 WriteLine. All Rights Reserved. Frankfort KY capitol"/>
          <p:cNvPicPr/>
          <p:nvPr/>
        </p:nvPicPr>
        <p:blipFill>
          <a:blip r:embed="rId1"/>
          <a:stretch/>
        </p:blipFill>
        <p:spPr>
          <a:xfrm>
            <a:off x="304920" y="685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All images Copyright © 1997 - 2000 WriteLine. All Rights Reserved. Horse Racing"/>
          <p:cNvPicPr/>
          <p:nvPr/>
        </p:nvPicPr>
        <p:blipFill>
          <a:blip r:embed="rId2"/>
          <a:stretch/>
        </p:blipFill>
        <p:spPr>
          <a:xfrm>
            <a:off x="5334120" y="3048120"/>
            <a:ext cx="3124080" cy="2082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440" y="3657600"/>
            <a:ext cx="41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,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5638680"/>
            <a:ext cx="274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54864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, 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7:22Z</dcterms:created>
  <dc:creator>install</dc:creator>
  <dc:description/>
  <dc:language>en-US</dc:language>
  <cp:lastModifiedBy>install</cp:lastModifiedBy>
  <dcterms:modified xsi:type="dcterms:W3CDTF">2012-04-16T13:05:12Z</dcterms:modified>
  <cp:revision>11</cp:revision>
  <dc:subject/>
  <dc:title>Slide 1</dc:title>
</cp:coreProperties>
</file>